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2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21CF-5C8E-4278-87AA-E245A73BA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3C2-F6F3-4338-8197-EBAD112E9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DD5F-632A-4D2E-8CF5-EE157EDC0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6176-92F6-467F-A8F9-CEF58B5FD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045-74E9-4A76-A6D6-F2B719BE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F46-FC21-4042-BAA2-6A92B676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F8E-875A-4668-BFC9-30DA2151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6B2-8E76-416F-BDA2-2E408F27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C72D-B2FB-4A0E-BDE8-5CD2A81E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537E-D985-40A0-9449-01707F4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E366-65E9-4BBF-A1E8-5F17E6EA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8122-9ED6-427F-85C0-0F5E483A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15B9-2B65-46EE-A096-568BD7BA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DAEB-6309-4E33-B556-5ADCF526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BF4C-E2F9-40BC-AEA0-7F30A27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239-D2D5-46A4-8B23-3B9C7B90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A479-2064-4884-B6B6-4660C46E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0B89-0E5E-4A0C-9848-C72B74B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B41-91C3-4C4B-9CCF-83EADB65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E28-72A4-4F38-B3D5-6D076F7B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699A-353E-43E6-A6A2-0D22301C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E588-E9B2-4DD0-A3FA-4BFF6E95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CEC1-1C19-4723-85E1-9C5C252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6E41-DAD1-48B2-895C-55CC881E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6970-A3D5-40C4-A73E-77539988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4C8C-3E40-4885-BEB2-89080563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5DC-4A7B-439A-81E3-7CB8ACC2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4604-4B5D-427B-8955-B2E9E65A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AF61-EBE4-47E5-9C1B-35D7B959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0256-DAC3-4586-8B3D-614BAC7F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557C-DBFB-4B52-B4B7-275A5E4F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C226-7E81-4B18-A891-34910B0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0A8A-B05F-436F-9B1C-592DC13D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DF0B-2F3E-4826-A71D-241AE930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4D6B-7335-4F9B-BE8A-0C55A955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BF8B5-1D32-420F-B6E9-8D43ADB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D4C69-A83D-4C88-8D4C-9B61C587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75C-48AA-4570-BD4E-2582280B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9BDA-D9EA-4056-B917-55CAA653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736B-02CC-46AD-96D4-DA92442A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00C0-604E-487F-B85B-B9CB9F4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8935-CC8D-423C-B82D-12FDAAA4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E2EF6-0A8B-4F35-9EE9-BA35E374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6A03-20C5-40C7-97C6-5CA8C21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11CD-0CA4-4F9D-B0C3-DD5FB130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02A2-80D8-44C9-9B01-D1387FFE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4ACA-E440-4076-872E-63AEEFFA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8BD-3DA0-414D-BFED-2D24A955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071-D502-4BD0-8DA0-072F4190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392-9F0F-480B-AF65-897154FC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0AE-302A-4B47-AFAE-B5D21911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10A-970A-4E9E-90C1-E6D839F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2A1-FAD9-4C90-A0AC-03E813748D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E04-5502-4D8A-B0A8-30B4C2395CF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0E0C-0E1D-4820-9AC6-96A61476CF9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5FA4-FB85-428C-8E08-E6EEC2BDDF4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ikipedia.com/" TargetMode="External"/><Relationship Id="rId2" Type="http://schemas.openxmlformats.org/officeDocument/2006/relationships/hyperlink" Target="http://www.mathwork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21" descr=""/>
          <p:cNvPicPr/>
          <p:nvPr/>
        </p:nvPicPr>
        <p:blipFill>
          <a:blip r:embed="rId1"/>
          <a:stretch/>
        </p:blipFill>
        <p:spPr>
          <a:xfrm>
            <a:off x="523800" y="1073160"/>
            <a:ext cx="83282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requency-Domain Filters for sharpening  of ima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al high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tterworth high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aussian high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04920" y="1676520"/>
                <a:ext cx="300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304920" y="3581280"/>
                <a:ext cx="2982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1"/>
              <p:cNvSpPr txBox="1"/>
              <p:nvPr/>
            </p:nvSpPr>
            <p:spPr>
              <a:xfrm>
                <a:off x="457200" y="5486400"/>
                <a:ext cx="3121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5" name="Picture 12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54864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3"/>
          <a:stretch/>
        </p:blipFill>
        <p:spPr>
          <a:xfrm>
            <a:off x="7238880" y="10666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"/>
          <p:cNvPicPr/>
          <p:nvPr/>
        </p:nvPicPr>
        <p:blipFill>
          <a:blip r:embed="rId4"/>
          <a:stretch/>
        </p:blipFill>
        <p:spPr>
          <a:xfrm>
            <a:off x="3733920" y="31240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"/>
          <p:cNvPicPr/>
          <p:nvPr/>
        </p:nvPicPr>
        <p:blipFill>
          <a:blip r:embed="rId5"/>
          <a:stretch/>
        </p:blipFill>
        <p:spPr>
          <a:xfrm>
            <a:off x="5486400" y="3124080"/>
            <a:ext cx="1697040" cy="1676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"/>
          <p:cNvPicPr/>
          <p:nvPr/>
        </p:nvPicPr>
        <p:blipFill>
          <a:blip r:embed="rId6"/>
          <a:stretch/>
        </p:blipFill>
        <p:spPr>
          <a:xfrm>
            <a:off x="7238880" y="297180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"/>
          <p:cNvPicPr/>
          <p:nvPr/>
        </p:nvPicPr>
        <p:blipFill>
          <a:blip r:embed="rId7"/>
          <a:stretch/>
        </p:blipFill>
        <p:spPr>
          <a:xfrm>
            <a:off x="373392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"/>
          <p:cNvPicPr/>
          <p:nvPr/>
        </p:nvPicPr>
        <p:blipFill>
          <a:blip r:embed="rId8"/>
          <a:stretch/>
        </p:blipFill>
        <p:spPr>
          <a:xfrm>
            <a:off x="5486400" y="510552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"/>
          <p:cNvPicPr/>
          <p:nvPr/>
        </p:nvPicPr>
        <p:blipFill>
          <a:blip r:embed="rId9"/>
          <a:stretch/>
        </p:blipFill>
        <p:spPr>
          <a:xfrm>
            <a:off x="7238880" y="4952880"/>
            <a:ext cx="1905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xample of Gaussian High pass filter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dge detection is performed here. The cells shape is visible clearly after  Gaussian high pass filter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original image                    high pass filtered image (Do=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3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15" descr="1.bmp.jpg"/>
          <p:cNvPicPr/>
          <p:nvPr/>
        </p:nvPicPr>
        <p:blipFill>
          <a:blip r:embed="rId1"/>
          <a:stretch/>
        </p:blipFill>
        <p:spPr>
          <a:xfrm>
            <a:off x="380880" y="3200400"/>
            <a:ext cx="3838680" cy="339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2.png"/>
          <p:cNvPicPr/>
          <p:nvPr/>
        </p:nvPicPr>
        <p:blipFill>
          <a:blip r:embed="rId2"/>
          <a:stretch/>
        </p:blipFill>
        <p:spPr>
          <a:xfrm>
            <a:off x="4800600" y="3200400"/>
            <a:ext cx="38098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Implementation Spatial domain filter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operation is performed directly on the pixels of an image, then is called Spatial Domain Filter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operation is performed 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put image by a suitable transf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ction we get the required outp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15" descr="Picture2.png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472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685800" y="4419720"/>
                <a:ext cx="3276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patial domain filtering through High Boost fil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boost filtering is a generalization of Unsharp Mask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sharp Masking is simply a sharp image generated from blurred image of itself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Boost filtering generalizes this by multiplying f(x, y) b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 constant A , amplification fa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ounded Rectangle 5"/>
          <p:cNvSpPr/>
          <p:nvPr/>
        </p:nvSpPr>
        <p:spPr>
          <a:xfrm>
            <a:off x="3352680" y="46483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1905120" y="5486400"/>
                <a:ext cx="4465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2073240" y="2803680"/>
                <a:ext cx="42354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f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patial (TIME) domain filtering through High Boost fil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us, High-boost filtering gives us the flexibility to increase the contribution made by image to the enhanced 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iginal image                  high pass image(Do=30)      high-boost image(A=2.5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6324480" y="373392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F:\mini project\programs\spider1.jpg"/>
          <p:cNvPicPr/>
          <p:nvPr/>
        </p:nvPicPr>
        <p:blipFill>
          <a:blip r:embed="rId3"/>
          <a:stretch/>
        </p:blipFill>
        <p:spPr>
          <a:xfrm>
            <a:off x="380880" y="373392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Application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Medical imaging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Satellite imaging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Material testing in industries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Fingerprint identification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Printing and publishing industry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dvantages &amp; Disadvantag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 is simple and easy to imple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 provides flexibility in the design of filtering solu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person needs knowledge in many fields to develop an application using image process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ise cannot be eliminated complete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us,  image enhancement techniques in frequency domain improves the  desired features of an image based on the requirements of the applications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onzalez and Woods,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Digital Image Process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udra Pratap,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Getting Started With Matlab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.Ramesh Babu,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Digital Image Process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www.wikipedia.c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2"/>
              </a:rPr>
              <a:t>www.mathwork.c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D Fourier transfo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ypes of Frequency -Domain fil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ic steps in Frequency-Domain filter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quency-Domain filters for smoothing of im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quency-Domain filters for sharpening of im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atial -Domain filtering through High Boost fil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vantages &amp; Disadvant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lu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371600"/>
            <a:ext cx="8381880" cy="548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Image Enhance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the process of making an image more pleasable than the original ima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Why need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ise introduced in to the image, out-of focus , atmospheric conditions, latency of imaging hardw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clip_image002.jpg"/>
          <p:cNvPicPr/>
          <p:nvPr/>
        </p:nvPicPr>
        <p:blipFill>
          <a:blip r:embed="rId1"/>
          <a:stretch/>
        </p:blipFill>
        <p:spPr>
          <a:xfrm>
            <a:off x="2819520" y="2666880"/>
            <a:ext cx="38098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troduction to 2-D Fourier transf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D DFT of input image  f(x, y) is  given 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,  u=0,1,2……..M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  v=0,1,2……..N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inverse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D DFT of output image F(u , v) is given 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,  x=0,1,2…….M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 y=0,1,2……..N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295280" y="2057400"/>
                <a:ext cx="6201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πj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ux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143000" y="5029200"/>
                <a:ext cx="62564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j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ux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asic steps in Frequency-Domain Filter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Oval 20"/>
          <p:cNvSpPr/>
          <p:nvPr/>
        </p:nvSpPr>
        <p:spPr>
          <a:xfrm>
            <a:off x="2514600" y="1600200"/>
            <a:ext cx="3733920" cy="1371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ncludes multiplication of  input/output images by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  <a:ea typeface="宋体"/>
              </a:rPr>
              <a:t>(-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nstantia"/>
                <a:ea typeface="宋体"/>
              </a:rPr>
              <a:t>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7165800" cy="3102120"/>
          </a:xfrm>
          <a:prstGeom prst="rect">
            <a:avLst/>
          </a:prstGeom>
          <a:ln w="0">
            <a:noFill/>
          </a:ln>
        </p:spPr>
      </p:pic>
      <p:cxnSp>
        <p:nvCxnSpPr>
          <p:cNvPr id="215" name="Shape 16"/>
          <p:cNvCxnSpPr>
            <a:endCxn id="213" idx="2"/>
          </p:cNvCxnSpPr>
          <p:nvPr/>
        </p:nvCxnSpPr>
        <p:spPr>
          <a:xfrm flipH="1" flipV="1" rot="5400000">
            <a:off x="685440" y="2819160"/>
            <a:ext cx="2363040" cy="1296000"/>
          </a:xfrm>
          <a:prstGeom prst="curved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6" name="Shape 18"/>
          <p:cNvCxnSpPr>
            <a:endCxn id="213" idx="6"/>
          </p:cNvCxnSpPr>
          <p:nvPr/>
        </p:nvCxnSpPr>
        <p:spPr>
          <a:xfrm flipV="1" rot="16200000">
            <a:off x="5905080" y="2628360"/>
            <a:ext cx="2286720" cy="1600920"/>
          </a:xfrm>
          <a:prstGeom prst="curved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re and Post processing step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the spectrum origin is shifted to center  by multiplying  input  and output image with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宋体"/>
              </a:rPr>
              <a:t>(-1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  <a:ea typeface="宋体"/>
              </a:rPr>
              <a:t>x + 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9" descr="Picture6.png"/>
          <p:cNvPicPr/>
          <p:nvPr/>
        </p:nvPicPr>
        <p:blipFill>
          <a:blip r:embed="rId1"/>
          <a:stretch/>
        </p:blipFill>
        <p:spPr>
          <a:xfrm>
            <a:off x="685800" y="2590920"/>
            <a:ext cx="7869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ypes of Frequency-Domain Filter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60480" y="1670040"/>
            <a:ext cx="89503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requency-Domain  Filters for Smoothing of ima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al Low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tterworth Low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aussian Low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388800" y="1676520"/>
                <a:ext cx="2725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380880" y="3581280"/>
                <a:ext cx="2590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457200" y="5638680"/>
                <a:ext cx="310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7" name="Picture 7" descr="11.png"/>
          <p:cNvPicPr/>
          <p:nvPr/>
        </p:nvPicPr>
        <p:blipFill>
          <a:blip r:embed="rId1"/>
          <a:stretch/>
        </p:blipFill>
        <p:spPr>
          <a:xfrm>
            <a:off x="3581280" y="1219320"/>
            <a:ext cx="1676520" cy="161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12.png"/>
          <p:cNvPicPr/>
          <p:nvPr/>
        </p:nvPicPr>
        <p:blipFill>
          <a:blip r:embed="rId2"/>
          <a:stretch/>
        </p:blipFill>
        <p:spPr>
          <a:xfrm>
            <a:off x="5486400" y="12952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13.png"/>
          <p:cNvPicPr/>
          <p:nvPr/>
        </p:nvPicPr>
        <p:blipFill>
          <a:blip r:embed="rId3"/>
          <a:stretch/>
        </p:blipFill>
        <p:spPr>
          <a:xfrm>
            <a:off x="7467480" y="121932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21.png"/>
          <p:cNvPicPr/>
          <p:nvPr/>
        </p:nvPicPr>
        <p:blipFill>
          <a:blip r:embed="rId4"/>
          <a:stretch/>
        </p:blipFill>
        <p:spPr>
          <a:xfrm>
            <a:off x="3581280" y="3200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22.png"/>
          <p:cNvPicPr/>
          <p:nvPr/>
        </p:nvPicPr>
        <p:blipFill>
          <a:blip r:embed="rId5"/>
          <a:stretch/>
        </p:blipFill>
        <p:spPr>
          <a:xfrm>
            <a:off x="5486400" y="3200400"/>
            <a:ext cx="1905120" cy="1832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23.png"/>
          <p:cNvPicPr/>
          <p:nvPr/>
        </p:nvPicPr>
        <p:blipFill>
          <a:blip r:embed="rId6"/>
          <a:stretch/>
        </p:blipFill>
        <p:spPr>
          <a:xfrm>
            <a:off x="7391520" y="312408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31.png"/>
          <p:cNvPicPr/>
          <p:nvPr/>
        </p:nvPicPr>
        <p:blipFill>
          <a:blip r:embed="rId7"/>
          <a:stretch/>
        </p:blipFill>
        <p:spPr>
          <a:xfrm>
            <a:off x="3505320" y="51055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32.png"/>
          <p:cNvPicPr/>
          <p:nvPr/>
        </p:nvPicPr>
        <p:blipFill>
          <a:blip r:embed="rId8"/>
          <a:stretch/>
        </p:blipFill>
        <p:spPr>
          <a:xfrm>
            <a:off x="548640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33.png"/>
          <p:cNvPicPr/>
          <p:nvPr/>
        </p:nvPicPr>
        <p:blipFill>
          <a:blip r:embed="rId9"/>
          <a:stretch/>
        </p:blipFill>
        <p:spPr>
          <a:xfrm>
            <a:off x="7315200" y="495288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xample of Gaussian Low pass filter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宋体"/>
              </a:rPr>
              <a:t>Character recognition in machine perception join the broken character segments with a Gaussian low pass filter with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=8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489480" cy="3605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347976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2:47:38Z</dcterms:created>
  <dc:creator>Electronics Projects</dc:creator>
  <dc:description>Electronics Projects</dc:description>
  <dc:language>en-US</dc:language>
  <cp:lastModifiedBy>Brigade</cp:lastModifiedBy>
  <dcterms:modified xsi:type="dcterms:W3CDTF">2011-08-26T11:08:43Z</dcterms:modified>
  <cp:revision>0</cp:revision>
  <dc:subject>Electronics Projects</dc:subject>
  <dc:title>ECE IEEE Projects</dc:title>
</cp:coreProperties>
</file>